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094-A672-47D7-B328-799D902D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AFF-1AB9-4B64-9DB9-74E58E7F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062C-7CC0-4488-9A65-0AD04254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11E-F915-449F-9AC6-6FDF3BA7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EDD3-9F20-43A7-8114-26361233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FE70-E4E9-4BE7-BD9D-4ADCAAD2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9B72-9F8F-4745-88ED-D7A62CB7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9E80-8EF9-4440-9CF3-E6592072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3D17-E09E-4ECC-8DDD-2F8371CB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D394-E110-49B3-AB19-6A12F224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3CD8-082C-4E06-BBC8-27670790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7F3A-BFA6-465C-9CE1-812E8255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D5E1-50E3-48BD-A819-DC35599D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5450-63DA-4F82-9F1D-E9BF69FB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F28C-E502-469C-A426-95C46F7D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3DE8-1C0F-4491-871C-A0A7A6DC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9A1D-FAEF-4A3C-A95C-05B806D8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E87-395B-4153-AD27-221F73DE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6D4-40BE-4A5F-B55D-E76115B1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7B1B-F469-4C67-A10A-55B0944E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004-C03F-4E60-930F-A5D8DDFC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4A5-FF57-4E3D-A3E5-7389436B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8790-CE4A-42BD-BA8B-1256D77A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38D-DFF4-446B-B7D2-9A9729B6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A7E4-BC05-4780-8F17-BEA93AA706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9311-F0E0-4954-9C0B-A9978E48B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itationmachine.n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o You Need A Bibliography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you need to 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is a bibliography and why do you need one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st of sources that you used for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ing readers to check that the information you present i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u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 to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v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f your research is so exciting, it lets the reader know where they can go to learn mo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f I Use a Book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need these pieces of information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. Title. City of Publication: Publish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 of Public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would look like th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jahn, Rebecca, and Donald Wojahn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Desert Food Ch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Minneapolis, MN: Lerner Publications, 2009. Pri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f I Use a Web Pag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need this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s Names. Title of Webpage. Title of Website. Date published or last updated. Publishing Organization or owner. Date you accessed the information.  The URL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a lot of information.  You may not be able to find everything.  That is ok– list what you find in the order abov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an example on the next sl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Page 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A Desert Food Chain."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uble Tak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2002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Media Limited , Web. 24 Feb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0.&lt;http://www.orbitforkids.com/do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taes/yellow/dt_yellow_desert.html&gt;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ce the quotation marks and periods.  Those are important.  Also 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nes are inden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couple of things to Know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teachers call bibliographies “works cited”  or refer to the entries as ci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all the same thing… don’t be confu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Bibliography needs to list the entries in alphabetical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n entry is longer than one line, each of the extra lines is inden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ed More Informa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Agenda Book – Page 1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ebsite will generate bibliography entries if you have the inform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Citationmachine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Teacher or Media Specialist can hel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7:34:38Z</dcterms:created>
  <dc:creator>ccps</dc:creator>
  <dc:description/>
  <dc:language>en-US</dc:language>
  <cp:lastModifiedBy>ccps</cp:lastModifiedBy>
  <dcterms:modified xsi:type="dcterms:W3CDTF">2010-02-24T18:20:42Z</dcterms:modified>
  <cp:revision>5</cp:revision>
  <dc:subject/>
  <dc:title>So You Need A Bibliography?</dc:title>
</cp:coreProperties>
</file>